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97C-55B2-4707-82CC-925987A4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AD5-014C-422C-83FE-473277F6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69C-20CF-44CD-B0E6-5BB1AFB8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0A8-08E5-438C-8AA4-83025B3B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3502-9D0C-4952-8549-4118EEC5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6652-C9C6-44DF-A723-B5818EFC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90CA-679E-4DF2-841D-DA39812D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05E0-B553-4C81-92A7-D5F0768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3AEA-B686-4ED0-B52B-B77ABCA2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D793-55F6-4ABC-AFC2-566ADFA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46AC-5E1F-40A0-BD84-2DFA3983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202-E1E2-47D7-B95D-9A880B12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17FA-0BD9-4DF7-8266-204CC9CF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1031-5AC2-4931-90B4-5CDEA84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2880-66C1-42B3-AE82-19E4E11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C00D-29EE-43CD-99FB-28C34758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035D-D47F-4BEC-A254-051D2127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3D7-C9CA-46CC-8505-EFE3170F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9A3-9C2B-4288-BC92-959102B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403-9EDC-4E83-A288-7EA52B90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480-B45C-49D8-8876-76A8077A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9CB-6323-4A2B-BA2E-C61F1D7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7AB-700E-4E4A-AE4A-6BC2B1D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FF7-0670-42A5-BED8-72C35E8B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EB92-E994-4917-98A7-4DAFFDFAA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058-0E62-4A8D-8B5B-440D94337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2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ike your test grade? Well, you have up to 3 retakes to improve your sc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2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8-13T16:15:56Z</dcterms:modified>
  <cp:revision>11</cp:revision>
  <dc:subject/>
  <dc:title>Slide 1</dc:title>
</cp:coreProperties>
</file>